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50443-62DC-42D3-AC83-4135C1ADE727}"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27"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87577-A456-4C61-8F4D-2B3043C479DA}"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0"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0FAF4-CDB6-46AA-8AC2-035117A1293F}"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3"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C7DC1-8CD5-4DAB-BA5A-E069577F19D0}"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6"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35453-849E-4FCA-8A2C-84C6F9B232CC}"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9"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55EE4-9B97-4683-BAB2-8835D748ABBC}"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42"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20AF4-1710-4C1F-B571-0DAAD491545D}"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45"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6BE5D-48D3-498A-92B1-38808794B10A}"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48"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7C24D-F0B4-4466-9189-050AC4DEA7E0}"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51"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EFCA5-BD54-46C6-8D55-BBBF7839D1B1}"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54"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43425-D165-44B3-8B49-DAAA4ABB4965}"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57"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216E3-969E-4292-BE32-8B2A0889C5AC}"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60"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6417C-92D5-434B-B4AA-704C825E7180}"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21"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671ED-8D4B-4725-B196-27AABB45A62F}"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24"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09AA0-276F-4923-919D-BA7D8AB69BB6}"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F649F-DACB-42D2-9ECC-7DC2F363F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6ECC7-350A-4922-8112-290B99493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F95B6-59AD-4B6F-8B42-923F468688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1DA2E4-BED7-4B95-8B11-63B205E9C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D6849-4182-4C21-9FB5-4B80ECB6E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A2726-DBBC-4F68-9E05-C2DA1C7E1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C8FC0-CEDB-4E38-915A-8D21057E7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5DB3B-47AF-4F68-B7E7-2824FC4E2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A4EFB-D8EC-43A4-8AA2-7724CB327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7F36F-5652-4DD9-BD2C-9C4AA2DFE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90258-46D7-41E3-B350-4A31A6A87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506EC-24B6-49AE-91DE-D18465DDCE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4A8F1-17DC-4A51-9F3F-C8EBC0BD172B}" type="datetime">
              <a:rPr b="0" lang="tr-TR" sz="1200" spc="-1" strike="noStrike">
                <a:solidFill>
                  <a:srgbClr val="898989"/>
                </a:solidFill>
                <a:latin typeface="Calibri"/>
              </a:rPr>
              <a:t>31.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FE4B2-239C-4FF2-92A4-342EEB410707}" type="slidenum">
              <a:rPr b="0" lang="tr-T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412640"/>
            <a:ext cx="7851600" cy="410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DİL NEDİR?                              DİLLERİN DOĞUŞU,</a:t>
            </a:r>
            <a:br>
              <a:rPr sz="3600"/>
            </a:br>
            <a:r>
              <a:rPr b="1" lang="en-US" sz="3600" spc="-1" strike="noStrike">
                <a:solidFill>
                  <a:srgbClr val="000000"/>
                </a:solidFill>
                <a:latin typeface="Times New Roman"/>
                <a:ea typeface="Times New Roman"/>
              </a:rPr>
              <a:t>D</a:t>
            </a:r>
            <a:r>
              <a:rPr b="1" lang="tr-TR" sz="3600" spc="-1" strike="noStrike">
                <a:solidFill>
                  <a:srgbClr val="000000"/>
                </a:solidFill>
                <a:latin typeface="Times New Roman"/>
                <a:ea typeface="Times New Roman"/>
              </a:rPr>
              <a:t>İLİN SOSYAL BİR KURUM OLARAK MİLLET HAYATINDAKİ YERİ VE ÖNEMİ, DİL – KÜLTÜR İLİŞKİSİ</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160" y="549360"/>
            <a:ext cx="8142120" cy="5759280"/>
          </a:xfrm>
          <a:prstGeom prst="rect">
            <a:avLst/>
          </a:prstGeom>
          <a:noFill/>
          <a:ln w="0">
            <a:noFill/>
          </a:ln>
        </p:spPr>
        <p:txBody>
          <a:bodyPr anchor="t">
            <a:noAutofit/>
          </a:bodyPr>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Dilin ilk gereci sestir ve dil öncelikle sözlü olarak gerçekleşir. İlk olarak sözlü  dili  ediniriz;  yazı  daha  sonra  kazanılan  bir beceridir.   Yazılmayan dillerin konuşurları ve okur yazar olmayanlar da ana dillerini doğru biçimde kullanabilirler ve gelecek  nesillere doğru  olarak  aktarabilirler.  Nitekim yazının  olmadığı çağlarda yaşayanlarla, halen okur yazar olmayanlar bunun örneğini oluştururlar, Her dilin kendine has bir ses yapısı vardır. Toplumsal ve tarihî etkenler, coğrafî şartlar \ ses yapısının farklılaşmasında etkilidir.</a:t>
            </a:r>
            <a:endParaRPr b="0" lang="en-US" sz="3200" spc="-1" strike="noStrike">
              <a:solidFill>
                <a:srgbClr val="000000"/>
              </a:solidFill>
              <a:latin typeface="Calibri"/>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533160" y="476280"/>
            <a:ext cx="7854840" cy="590544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Dil, sosyal bir kurum olup aynı zamanda sosyalleşme aracıdır. Kişilerin üstünde, bütün bir toplumun malıdır. Toplumun en büyük dayanağı olup onu tutar. Bu bakımdan dil, milleti oluşturan unsurların başında yer alır. Bir milleti bazen tek başına ayakta tutar, millî benliği koruyarak, onu yok olmaktan, başkalaşmaktan kurtarı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 kişiler ve nesiller arasında kültür taşıyıcısıdı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971280" y="368280"/>
            <a:ext cx="7497720" cy="5797440"/>
          </a:xfrm>
          <a:prstGeom prst="rect">
            <a:avLst/>
          </a:prstGeom>
          <a:noFill/>
          <a:ln w="0">
            <a:noFill/>
          </a:ln>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DİLLERİN DOĞUŞU</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gün yeryüzünde çok sayıda dil vardır. Fakat bu dillerin ilk defa ne zaman ve nerede ortaya çıktığı belli değildir. Bu yüzden dillerin doğuşu konusunda çeşitli görüşler mevcuttur.</a:t>
            </a: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ir kısım dilbilimcilere göre dil, insan varlığı ile birlikte ortaya çıkmıştır. İnsan varlığının yeryüzünde ne zaman başladığı ve ilk önce hangi dil veya dilleri konuştuğu hakkında elde belgeye dayanan bilgiler yoktur. İnsanların farklı diller konuştuğunu MÖ. 4 binli yıllardan bu yana, bize ulaşan değişik milletlere ait belgelerden anlamaktayız.</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BC173-6208-4831-8928-2AD04F058294}"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971280" y="1413000"/>
            <a:ext cx="7497720" cy="47527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Dilin ortaya çıkışı konusundaki görüşler iki noktada toplanabili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ler tek kaynaktan çıkmış, diğer diller o ana dilden yayılmıştır.</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ler yeryüzünde birden çok kaynaktan, birden çok merkezde ortaya çıkmış bu şekilde farklı diller oluşmuştu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62CDD-A1F0-4BB9-B6E5-B5D2EE9035EC}"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tr-TR" sz="3600" spc="-1" strike="noStrike">
                <a:solidFill>
                  <a:srgbClr val="000000"/>
                </a:solidFill>
                <a:latin typeface="Times New Roman"/>
                <a:ea typeface="Times New Roman"/>
              </a:rPr>
              <a:t>Dillerin Tek Kaynaktan Çıkması (Monojenist) Görüşü</a:t>
            </a:r>
            <a:br>
              <a:rPr sz="3600"/>
            </a:br>
            <a:endParaRPr b="0" lang="en-US" sz="3600" spc="-1" strike="noStrike">
              <a:solidFill>
                <a:srgbClr val="000000"/>
              </a:solidFill>
              <a:latin typeface="Calibri"/>
            </a:endParaRPr>
          </a:p>
        </p:txBody>
      </p:sp>
      <p:sp>
        <p:nvSpPr>
          <p:cNvPr id="69" name=""/>
          <p:cNvSpPr txBox="1"/>
          <p:nvPr/>
        </p:nvSpPr>
        <p:spPr>
          <a:xfrm>
            <a:off x="971280" y="1413000"/>
            <a:ext cx="7497720" cy="47527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Gelişmiş şuurlu insan seviyesine yükselen insanoğlu varlıkları işaretlerle anlatma döneminden sonra onları seslerle karşılama aşamasına gelmiş, kendisinde bulunan dil yeteneğini, konuşma ve işitme organlarını kullanarak yine sesleri taklit ederek yansıma yoluyla varlıkları karşılayan ilk kelimeleri ortaya çıkarmaya başlamış, daha sonra da dil kanunları oluşmuştu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C89B2-B6E5-4517-81B7-E89B1E0D7548}"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971280" y="1413000"/>
            <a:ext cx="7497720" cy="4752720"/>
          </a:xfrm>
          <a:prstGeom prst="rect">
            <a:avLst/>
          </a:prstGeom>
          <a:noFill/>
          <a:ln w="0">
            <a:noFill/>
          </a:ln>
        </p:spPr>
        <p:txBody>
          <a:bodyPr anchor="t">
            <a:normAutofit/>
          </a:bodyPr>
          <a:p>
            <a:pPr marL="343080" indent="-343080" algn="just">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r>
              <a:rPr b="0" lang="tr-TR" sz="2900" spc="-1" strike="noStrike">
                <a:solidFill>
                  <a:srgbClr val="000000"/>
                </a:solidFill>
                <a:latin typeface="Times New Roman"/>
                <a:ea typeface="Times New Roman"/>
              </a:rPr>
              <a:t>Dini kaynaklardan gelen bilgilere göre diller ilk yaratılan insanla,  Adem peygamberle başlamıştır:</a:t>
            </a:r>
            <a:endParaRPr b="0" lang="en-US" sz="2900" spc="-1" strike="noStrike">
              <a:solidFill>
                <a:srgbClr val="000000"/>
              </a:solidFill>
              <a:latin typeface="Calibri"/>
            </a:endParaRPr>
          </a:p>
          <a:p>
            <a:pPr marL="343080" indent="-343080" algn="just">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Times New Roman"/>
                <a:ea typeface="Times New Roman"/>
              </a:rPr>
              <a:t>	</a:t>
            </a:r>
            <a:endParaRPr b="0" lang="en-US" sz="2900" spc="-1" strike="noStrike">
              <a:solidFill>
                <a:srgbClr val="000000"/>
              </a:solidFill>
              <a:latin typeface="Calibri"/>
            </a:endParaRPr>
          </a:p>
          <a:p>
            <a:pPr marL="343080" indent="-343080" algn="just">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Times New Roman"/>
                <a:ea typeface="Times New Roman"/>
              </a:rPr>
              <a:t>	</a:t>
            </a:r>
            <a:r>
              <a:rPr b="0" lang="tr-TR" sz="2900" spc="-1" strike="noStrike">
                <a:solidFill>
                  <a:srgbClr val="000000"/>
                </a:solidFill>
                <a:latin typeface="Times New Roman"/>
                <a:ea typeface="Times New Roman"/>
              </a:rPr>
              <a:t>“</a:t>
            </a:r>
            <a:r>
              <a:rPr b="0" lang="tr-TR" sz="2900" spc="-1" strike="noStrike">
                <a:solidFill>
                  <a:srgbClr val="000000"/>
                </a:solidFill>
                <a:latin typeface="Times New Roman"/>
                <a:ea typeface="Times New Roman"/>
              </a:rPr>
              <a:t>Allah Hz. Adem’e bütün adları öğretmişti...”(Bakara suresi,31.Ayet)</a:t>
            </a:r>
            <a:endParaRPr b="0" lang="en-US" sz="2900" spc="-1" strike="noStrike">
              <a:solidFill>
                <a:srgbClr val="000000"/>
              </a:solidFill>
              <a:latin typeface="Calibri"/>
            </a:endParaRPr>
          </a:p>
          <a:p>
            <a:pPr marL="343080" indent="-343080" algn="just">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Times New Roman"/>
                <a:ea typeface="Times New Roman"/>
              </a:rPr>
              <a:t>	</a:t>
            </a:r>
            <a:r>
              <a:rPr b="0" lang="tr-TR" sz="2900" spc="-1" strike="noStrike">
                <a:solidFill>
                  <a:srgbClr val="000000"/>
                </a:solidFill>
                <a:latin typeface="Times New Roman"/>
                <a:ea typeface="Times New Roman"/>
              </a:rPr>
              <a:t>“</a:t>
            </a:r>
            <a:r>
              <a:rPr b="0" lang="tr-TR" sz="2900" spc="-1" strike="noStrike">
                <a:solidFill>
                  <a:srgbClr val="000000"/>
                </a:solidFill>
                <a:latin typeface="Times New Roman"/>
                <a:ea typeface="Times New Roman"/>
              </a:rPr>
              <a:t>Rahman olan Allah insanı yaratmış, ona beyan kabiliyetini vermiş, Kur’an’ı öğretmiştir.” (Rahman Suresi1-4. ayet)</a:t>
            </a:r>
            <a:endParaRPr b="0" lang="en-US" sz="2900" spc="-1" strike="noStrike">
              <a:solidFill>
                <a:srgbClr val="000000"/>
              </a:solidFill>
              <a:latin typeface="Calibri"/>
            </a:endParaRPr>
          </a:p>
          <a:p>
            <a:pPr marL="343080" indent="-343080" algn="just">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Times New Roman"/>
                <a:ea typeface="Times New Roman"/>
              </a:rPr>
              <a:t>	</a:t>
            </a:r>
            <a:endParaRPr b="0" lang="en-US" sz="2900" spc="-1" strike="noStrike">
              <a:solidFill>
                <a:srgbClr val="000000"/>
              </a:solidFill>
              <a:latin typeface="Calibri"/>
            </a:endParaRPr>
          </a:p>
          <a:p>
            <a:pPr marL="343080" indent="-343080" algn="just">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Times New Roman"/>
                <a:ea typeface="Times New Roman"/>
              </a:rPr>
              <a:t>	</a:t>
            </a:r>
            <a:r>
              <a:rPr b="0" lang="tr-TR" sz="2900" spc="-1" strike="noStrike">
                <a:solidFill>
                  <a:srgbClr val="000000"/>
                </a:solidFill>
                <a:latin typeface="Times New Roman"/>
                <a:ea typeface="Times New Roman"/>
              </a:rPr>
              <a:t>	</a:t>
            </a:r>
            <a:endParaRPr b="0" lang="en-US" sz="2900" spc="-1" strike="noStrike">
              <a:solidFill>
                <a:srgbClr val="000000"/>
              </a:solidFill>
              <a:latin typeface="Calibri"/>
            </a:endParaRPr>
          </a:p>
        </p:txBody>
      </p:sp>
      <p:sp>
        <p:nvSpPr>
          <p:cNvPr id="72"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3F187-5094-4C7C-8D1E-5301C4A9B54D}"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971280" y="1413000"/>
            <a:ext cx="7497720" cy="47527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evrat’a göre:</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Nuh Tufanı’ndan önce tek kavim, tek bir dil vardı. Nemrut, tanrılık iddiasıyla Babil Kulesi’ni gökyüzüne doğru yükseltince, tufan koptu...Babil’den kaçan insanlar, birbirlerini tanımaz bir halde dünyanın dört yanına dağıldılar. Her bir grup, bulunduğu yerde kendine has bir dille konuşmaya başladı; böylece, ilk dil farklılaşmaları ortaya çıktı.</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7E843-4968-46CA-BEFC-FD7AF53C7231}"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498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Dillerin Çok Kaynaktan Çıkması (Polijenist) Görüşü</a:t>
            </a:r>
            <a:br>
              <a:rPr sz="3600"/>
            </a:br>
            <a:endParaRPr b="0" lang="en-US" sz="3600" spc="-1" strike="noStrike">
              <a:solidFill>
                <a:srgbClr val="000000"/>
              </a:solidFill>
              <a:latin typeface="Calibri"/>
            </a:endParaRPr>
          </a:p>
        </p:txBody>
      </p:sp>
      <p:sp>
        <p:nvSpPr>
          <p:cNvPr id="76" name=""/>
          <p:cNvSpPr txBox="1"/>
          <p:nvPr/>
        </p:nvSpPr>
        <p:spPr>
          <a:xfrm>
            <a:off x="971280" y="1413000"/>
            <a:ext cx="7497720" cy="47527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 görüşle ilgili başlıca şu teoriler ileri sürülü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7030a0"/>
                </a:solidFill>
                <a:latin typeface="Times New Roman"/>
                <a:ea typeface="Times New Roman"/>
              </a:rPr>
              <a:t>1. Yansıma teorisi</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7030a0"/>
                </a:solidFill>
                <a:latin typeface="Times New Roman"/>
                <a:ea typeface="Times New Roman"/>
              </a:rPr>
              <a:t>	</a:t>
            </a:r>
            <a:r>
              <a:rPr b="0" lang="tr-TR" sz="2800" spc="-1" strike="noStrike">
                <a:solidFill>
                  <a:srgbClr val="7030a0"/>
                </a:solidFill>
                <a:latin typeface="Times New Roman"/>
                <a:ea typeface="Times New Roman"/>
              </a:rPr>
              <a:t>2. Ünlem teorisi</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7030a0"/>
                </a:solidFill>
                <a:latin typeface="Times New Roman"/>
                <a:ea typeface="Times New Roman"/>
              </a:rPr>
              <a:t>	</a:t>
            </a:r>
            <a:r>
              <a:rPr b="0" lang="tr-TR" sz="2800" spc="-1" strike="noStrike">
                <a:solidFill>
                  <a:srgbClr val="7030a0"/>
                </a:solidFill>
                <a:latin typeface="Times New Roman"/>
                <a:ea typeface="Times New Roman"/>
              </a:rPr>
              <a:t>3. Psikolojik teori</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7030a0"/>
                </a:solidFill>
                <a:latin typeface="Times New Roman"/>
                <a:ea typeface="Times New Roman"/>
              </a:rPr>
              <a:t>	</a:t>
            </a:r>
            <a:r>
              <a:rPr b="0" lang="tr-TR" sz="2800" spc="-1" strike="noStrike">
                <a:solidFill>
                  <a:srgbClr val="7030a0"/>
                </a:solidFill>
                <a:latin typeface="Times New Roman"/>
                <a:ea typeface="Times New Roman"/>
              </a:rPr>
              <a:t>4. İş teorisi</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6E52A-478B-4825-89D8-3322B8DCB0EB}"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1. Yansıma Teorisi</a:t>
            </a:r>
            <a:br>
              <a:rPr sz="3600"/>
            </a:br>
            <a:endParaRPr b="0" lang="en-US" sz="3200" spc="-1" strike="noStrike">
              <a:solidFill>
                <a:srgbClr val="000000"/>
              </a:solidFill>
              <a:latin typeface="Calibri"/>
            </a:endParaRPr>
          </a:p>
        </p:txBody>
      </p:sp>
      <p:sp>
        <p:nvSpPr>
          <p:cNvPr id="79" name=""/>
          <p:cNvSpPr txBox="1"/>
          <p:nvPr/>
        </p:nvSpPr>
        <p:spPr>
          <a:xfrm>
            <a:off x="971280" y="1413000"/>
            <a:ext cx="7497720" cy="47527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Dildeki ilk kelimeler tabiattaki sesleri taklitten doğmuştu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4bacc6"/>
                </a:solidFill>
                <a:latin typeface="Times New Roman"/>
                <a:ea typeface="Times New Roman"/>
              </a:rPr>
              <a:t>“</a:t>
            </a:r>
            <a:r>
              <a:rPr b="0" lang="tr-TR" sz="2800" spc="-1" strike="noStrike">
                <a:solidFill>
                  <a:srgbClr val="4bacc6"/>
                </a:solidFill>
                <a:latin typeface="Times New Roman"/>
                <a:ea typeface="Times New Roman"/>
              </a:rPr>
              <a:t>Horul horul, çatır çatır, mışıl mışıl” </a:t>
            </a:r>
            <a:r>
              <a:rPr b="0" lang="tr-TR" sz="2800" spc="-1" strike="noStrike">
                <a:solidFill>
                  <a:srgbClr val="000000"/>
                </a:solidFill>
                <a:latin typeface="Times New Roman"/>
                <a:ea typeface="Times New Roman"/>
              </a:rPr>
              <a:t>gibi.</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7B9F8-B0DF-4D88-BCA4-50F149B24DF2}"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2. Ünlem Teorisi</a:t>
            </a:r>
            <a:endParaRPr b="0" lang="en-US" sz="3200" spc="-1" strike="noStrike">
              <a:solidFill>
                <a:srgbClr val="000000"/>
              </a:solidFill>
              <a:latin typeface="Calibri"/>
            </a:endParaRPr>
          </a:p>
        </p:txBody>
      </p:sp>
      <p:sp>
        <p:nvSpPr>
          <p:cNvPr id="82" name=""/>
          <p:cNvSpPr txBox="1"/>
          <p:nvPr/>
        </p:nvSpPr>
        <p:spPr>
          <a:xfrm>
            <a:off x="971280" y="1413000"/>
            <a:ext cx="7497720" cy="47527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nsanların karşılaştıkları hadiseler, varlıklar ve durumlar karşısında tepki verirken çıkardıkları </a:t>
            </a:r>
            <a:r>
              <a:rPr b="0" lang="tr-TR" sz="2800" spc="-1" strike="noStrike">
                <a:solidFill>
                  <a:srgbClr val="4bacc6"/>
                </a:solidFill>
                <a:latin typeface="Times New Roman"/>
                <a:ea typeface="Times New Roman"/>
              </a:rPr>
              <a:t>“ah!,aaa!,oh!,of!,ay!” </a:t>
            </a:r>
            <a:r>
              <a:rPr b="0" lang="tr-TR" sz="2800" spc="-1" strike="noStrike">
                <a:solidFill>
                  <a:srgbClr val="000000"/>
                </a:solidFill>
                <a:latin typeface="Times New Roman"/>
                <a:ea typeface="Times New Roman"/>
              </a:rPr>
              <a:t>gibi ünlemler dildeki ilk kelimeleri oluşturmuştur</a:t>
            </a:r>
            <a:r>
              <a:rPr b="0" lang="tr-TR" sz="2800" spc="-1" strike="noStrike">
                <a:solidFill>
                  <a:srgbClr val="000000"/>
                </a:solidFill>
                <a:latin typeface="Calibri"/>
              </a:rPr>
              <a:t>.</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BBD66-0E63-4390-9613-D4970ED8B80B}"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11280" y="259920"/>
            <a:ext cx="785160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tr-TR" sz="3600" spc="-1" strike="noStrike">
                <a:solidFill>
                  <a:srgbClr val="000000"/>
                </a:solidFill>
                <a:latin typeface="Times New Roman"/>
                <a:ea typeface="Times New Roman"/>
              </a:rPr>
              <a:t> </a:t>
            </a:r>
            <a:r>
              <a:rPr b="0" lang="tr-TR" sz="3600" spc="-1" strike="noStrike">
                <a:solidFill>
                  <a:srgbClr val="000000"/>
                </a:solidFill>
                <a:latin typeface="Times New Roman"/>
                <a:ea typeface="Times New Roman"/>
              </a:rPr>
              <a:t>DİLİN TANIMI VE NİTELİKLERİ</a:t>
            </a:r>
            <a:br>
              <a:rPr sz="3600"/>
            </a:br>
            <a:endParaRPr b="0" lang="en-US" sz="3600" spc="-1" strike="noStrike">
              <a:solidFill>
                <a:srgbClr val="000000"/>
              </a:solidFill>
              <a:latin typeface="Calibri"/>
            </a:endParaRPr>
          </a:p>
        </p:txBody>
      </p:sp>
      <p:sp>
        <p:nvSpPr>
          <p:cNvPr id="50" name="PlaceHolder 2"/>
          <p:cNvSpPr>
            <a:spLocks noGrp="1"/>
          </p:cNvSpPr>
          <p:nvPr>
            <p:ph type="subTitle"/>
          </p:nvPr>
        </p:nvSpPr>
        <p:spPr>
          <a:xfrm>
            <a:off x="533160" y="1052280"/>
            <a:ext cx="7854840" cy="5545080"/>
          </a:xfrm>
          <a:prstGeom prst="rect">
            <a:avLst/>
          </a:prstGeom>
          <a:noFill/>
          <a:ln w="0">
            <a:noFill/>
          </a:ln>
        </p:spPr>
        <p:txBody>
          <a:bodyPr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 Dil Kurumunun yayınladığı </a:t>
            </a:r>
            <a:r>
              <a:rPr b="0" i="1" lang="tr-TR" sz="2400" spc="-1" strike="noStrike">
                <a:solidFill>
                  <a:srgbClr val="000000"/>
                </a:solidFill>
                <a:latin typeface="Times New Roman"/>
                <a:ea typeface="Times New Roman"/>
              </a:rPr>
              <a:t>"Güncel Türkçe Sözlük"te </a:t>
            </a:r>
            <a:r>
              <a:rPr b="0" lang="tr-TR" sz="2400" spc="-1" strike="noStrike">
                <a:solidFill>
                  <a:srgbClr val="000000"/>
                </a:solidFill>
                <a:latin typeface="Times New Roman"/>
                <a:ea typeface="Times New Roman"/>
              </a:rPr>
              <a:t>dil kelimesi; </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ğız boşluğunda, tatmaya, yutkunmaya, sesleri boğumlamaya yarayan uzun, hareketli organ; tat alma organı.</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İnsanların düşündüklerini ve duyduklarını bildirmek için kelimelerle  işaretlerle yaptıkları anlaşma, lisan.</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ir çağa, bir gruba, bir yazara özgü söz dağarcığı ve söz dizimi.</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elli durumlara, mesleklere, konulara özgü dil.</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Düşünce ve duyguları bildirmeye yarayan herhangi bir anlatım aracı.</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azı üflemeli çalgılarda titreşerek ses çıkaran ince metal yaprak.</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3. Psikolojik Teori</a:t>
            </a:r>
            <a:endParaRPr b="0" lang="en-US" sz="3200" spc="-1" strike="noStrike">
              <a:solidFill>
                <a:srgbClr val="000000"/>
              </a:solidFill>
              <a:latin typeface="Calibri"/>
            </a:endParaRPr>
          </a:p>
        </p:txBody>
      </p:sp>
      <p:sp>
        <p:nvSpPr>
          <p:cNvPr id="85" name=""/>
          <p:cNvSpPr txBox="1"/>
          <p:nvPr/>
        </p:nvSpPr>
        <p:spPr>
          <a:xfrm>
            <a:off x="971280" y="1413000"/>
            <a:ext cx="7497720" cy="47527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lk kelimeler vücut dilinin, ağızda konuşma organlarından çıkan seslere yansımasından oluşmuştur. Yani ilk insanlar, tıpkı yeni konuşmaya başlayan bir çocukta olduğu gibi dileğini anlatmak için ilk önce yansıma sesler çıkarmaya başlamıştı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81E27-842C-4ED2-9C59-22B66A002A8F}"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4. İş Teorisi</a:t>
            </a:r>
            <a:endParaRPr b="0" lang="en-US" sz="3200" spc="-1" strike="noStrike">
              <a:solidFill>
                <a:srgbClr val="000000"/>
              </a:solidFill>
              <a:latin typeface="Calibri"/>
            </a:endParaRPr>
          </a:p>
        </p:txBody>
      </p:sp>
      <p:sp>
        <p:nvSpPr>
          <p:cNvPr id="88" name=""/>
          <p:cNvSpPr txBox="1"/>
          <p:nvPr/>
        </p:nvSpPr>
        <p:spPr>
          <a:xfrm>
            <a:off x="971280" y="1413000"/>
            <a:ext cx="7497720" cy="47527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lk kelimeler, insanların kazma, çakma, kırma gibi işleri yaparken çıkardıkları ritmik seslerden oluşmuştu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0AD6E-EE4A-4D22-9513-F3D5F6B2D55B}"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971280" y="1413000"/>
            <a:ext cx="7497720" cy="47527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Maddeci felsefeye göre dil, insanların ortaklaşa çalışmasından doğan bir kurumdur: Ortaklaşa çalışma içindeki insanlar, birbirleriyle iletişimde bulunmak için konuşma gereksinimi duydular. Başlangıçta yalnızca, çalışırken şu ya da bu işleme uygun düşen tek tek ünlemlerle konuşuluyordu. Daha sonra az gelişmiş olan gırtlak, telaffuz edilen sözleri çıkarmaya yetenekli bir organa dönüşmek üzere değişikliğe uğradı.</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8D777-89C6-425B-BA7D-584EABA353F7}"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971280" y="1413000"/>
            <a:ext cx="7497720" cy="47527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Ferdinand de Saussure, dilin varlığını insanda bulunan dil yetisi diye adlandırdığı özel bir yeteneğe bağlar ve bu yetenek sonucunda geliştirilen bir sistem olan dilin hem şahsi hem de sosyal yönünün bulunduğunu ileri süre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d99694"/>
                </a:solidFill>
                <a:latin typeface="Times New Roman"/>
                <a:ea typeface="Times New Roman"/>
              </a:rPr>
              <a:t>	</a:t>
            </a:r>
            <a:r>
              <a:rPr b="0" lang="tr-TR" sz="2800" spc="-1" strike="noStrike">
                <a:solidFill>
                  <a:srgbClr val="d99694"/>
                </a:solidFill>
                <a:latin typeface="Times New Roman"/>
                <a:ea typeface="Times New Roman"/>
              </a:rPr>
              <a:t>	</a:t>
            </a:r>
            <a:r>
              <a:rPr b="0" lang="tr-TR" sz="2800" spc="-1" strike="noStrike">
                <a:solidFill>
                  <a:srgbClr val="000000"/>
                </a:solidFill>
                <a:latin typeface="Times New Roman"/>
                <a:ea typeface="Times New Roman"/>
              </a:rPr>
              <a:t>«</a:t>
            </a:r>
            <a:r>
              <a:rPr b="0" i="1" lang="tr-TR" sz="2800" spc="-1" strike="noStrike">
                <a:solidFill>
                  <a:srgbClr val="000000"/>
                </a:solidFill>
                <a:latin typeface="Times New Roman"/>
                <a:ea typeface="Times New Roman"/>
              </a:rPr>
              <a:t>Dilin veya dillerin doğuşunu bulmak bir bakıma insan varlığının başlangıcını ortaya koymaktı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162AF-73A2-47A5-B804-18DA40F6877D}"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836640"/>
            <a:ext cx="82296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DİL KÜLTÜR İLİŞKİSİ</a:t>
            </a:r>
            <a:endParaRPr b="0" lang="en-US" sz="36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ültür;</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nsanları hem diğer insanlarla ilişkilerinde, hem de tabiat karşısında uyumlu hale getirmeye çalışan değerler, normlar ve sosyal kontrol unsurlarının bütünüdür.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nsanın ortaya koyduğu, içinde var olduğu her şey kültür kavramının içinde değerlendirilir.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arihi toplumsal gelişme süreci içinde yaratılan ve milletin fertlerini birbirine bağlayan dil, tarih, din, örf, adetler, ekonomi, ahlak anlayışı gibi maddî ve manevi değerlerin tümüdür. </a:t>
            </a:r>
            <a:endParaRPr b="0" lang="en-US" sz="28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6"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C1D30-6F86-4575-9662-BC6E1743A6B3}"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919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KÜLTÜRÜN</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ÖZELLİKLERİ</a:t>
            </a:r>
            <a:endParaRPr b="0" lang="en-US" sz="28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Millîdi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Sürekli ve tarihîdi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Özgündü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Canlı ve doğaldı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Özü değiştirilemez.</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Toplumun ortak malıdı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İhtiyaçları karşıla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Nesilden nesle aktarılır.</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EBBF0-7464-4D40-9AD4-BDF64EC68593}"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692280"/>
            <a:ext cx="8229600" cy="543384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Millîlik: </a:t>
            </a:r>
            <a:r>
              <a:rPr b="0" lang="tr-TR" sz="2800" spc="-1" strike="noStrike">
                <a:solidFill>
                  <a:srgbClr val="000000"/>
                </a:solidFill>
                <a:latin typeface="Times New Roman"/>
                <a:ea typeface="Times New Roman"/>
              </a:rPr>
              <a:t>Her milletin onu başka milletlerden ayıran kendine has bir kültürü vardır. </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Sürekli ve tarihîdir: </a:t>
            </a:r>
            <a:r>
              <a:rPr b="0" lang="tr-TR" sz="2800" spc="-1" strike="noStrike">
                <a:solidFill>
                  <a:srgbClr val="000000"/>
                </a:solidFill>
                <a:latin typeface="Times New Roman"/>
                <a:ea typeface="Times New Roman"/>
              </a:rPr>
              <a:t>Kültür , millet varlığının şekillenmeye başladığı andan itibaren kesintisiz devam eden bir sürecin ürünüdür.</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Özgünlük: </a:t>
            </a:r>
            <a:r>
              <a:rPr b="0" lang="tr-TR" sz="2800" spc="-1" strike="noStrike">
                <a:solidFill>
                  <a:srgbClr val="000000"/>
                </a:solidFill>
                <a:latin typeface="Times New Roman"/>
                <a:ea typeface="Times New Roman"/>
              </a:rPr>
              <a:t>Milletlerin kendi anlayışlarının ve yaşama şartlarının ürünü olan kültürleri, özgündür.</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Canlılık ve doğallık: </a:t>
            </a:r>
            <a:r>
              <a:rPr b="0" lang="tr-TR" sz="2800" spc="-1" strike="noStrike">
                <a:solidFill>
                  <a:srgbClr val="000000"/>
                </a:solidFill>
                <a:latin typeface="Times New Roman"/>
                <a:ea typeface="Times New Roman"/>
              </a:rPr>
              <a:t>Kültür de tıpkı dil gibi canlı ve doğaldır. Tarihi süreçte doğal bir biçimde varlığını devam ettirirken zamana ve şartlara bağlı olarak değişir ve gelişi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549360"/>
            <a:ext cx="8229600" cy="5975280"/>
          </a:xfrm>
          <a:prstGeom prst="rect">
            <a:avLst/>
          </a:prstGeom>
          <a:noFill/>
          <a:ln w="0">
            <a:noFill/>
          </a:ln>
        </p:spPr>
        <p:txBody>
          <a:bodyPr anchor="t">
            <a:normAutofit/>
          </a:bodyPr>
          <a:p>
            <a:pPr marL="343080" indent="-343080" algn="just">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Özü değiştirilemez: </a:t>
            </a:r>
            <a:r>
              <a:rPr b="0" lang="tr-TR" sz="2800" spc="-1" strike="noStrike">
                <a:solidFill>
                  <a:srgbClr val="000000"/>
                </a:solidFill>
                <a:latin typeface="Times New Roman"/>
                <a:ea typeface="Times New Roman"/>
              </a:rPr>
              <a:t>Günümüzde artık başka kültürlerden etkilenmemek mümkün değildir. Ancak bu değişim kültürün özünde değil, sadece bazı unsurlarındadır. </a:t>
            </a:r>
            <a:endParaRPr b="0" lang="en-US" sz="2800" spc="-1" strike="noStrike">
              <a:solidFill>
                <a:srgbClr val="000000"/>
              </a:solidFill>
              <a:latin typeface="Calibri"/>
            </a:endParaRPr>
          </a:p>
          <a:p>
            <a:pPr marL="343080" indent="-343080" algn="just">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Toplumun ortak malıdır:</a:t>
            </a:r>
            <a:r>
              <a:rPr b="0" lang="tr-TR" sz="2800" spc="-1" strike="noStrike">
                <a:solidFill>
                  <a:srgbClr val="000000"/>
                </a:solidFill>
                <a:latin typeface="Times New Roman"/>
                <a:ea typeface="Times New Roman"/>
              </a:rPr>
              <a:t> Kültür, kişilerin üstüne taşan ve toplumu hükmü altına alan bir sistem olduğu için toplumun ortak malıdır ve kapsamlıdır.</a:t>
            </a:r>
            <a:endParaRPr b="0" lang="en-US" sz="2800" spc="-1" strike="noStrike">
              <a:solidFill>
                <a:srgbClr val="000000"/>
              </a:solidFill>
              <a:latin typeface="Calibri"/>
            </a:endParaRPr>
          </a:p>
          <a:p>
            <a:pPr marL="343080" indent="-343080" algn="just">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İhtiyaçları karşılar: </a:t>
            </a:r>
            <a:r>
              <a:rPr b="0" lang="tr-TR" sz="2800" spc="-1" strike="noStrike">
                <a:solidFill>
                  <a:srgbClr val="000000"/>
                </a:solidFill>
                <a:latin typeface="Times New Roman"/>
                <a:ea typeface="Times New Roman"/>
              </a:rPr>
              <a:t>İnsanları hem diğer insanlarla ilişkilerinde, hem de tabiat karşısında uyumlu hale getirir. Kişinin toplumla bütünleşmesine ve mutluluğu­na hizmet eder.</a:t>
            </a:r>
            <a:endParaRPr b="0" lang="en-US" sz="2800" spc="-1" strike="noStrike">
              <a:solidFill>
                <a:srgbClr val="000000"/>
              </a:solidFill>
              <a:latin typeface="Calibri"/>
            </a:endParaRPr>
          </a:p>
          <a:p>
            <a:pPr marL="343080" indent="-343080" algn="just">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Nesilden nesle aktarılır: </a:t>
            </a:r>
            <a:r>
              <a:rPr b="0" lang="tr-TR" sz="2800" spc="-1" strike="noStrike">
                <a:solidFill>
                  <a:srgbClr val="000000"/>
                </a:solidFill>
                <a:latin typeface="Times New Roman"/>
                <a:ea typeface="Times New Roman"/>
              </a:rPr>
              <a:t>Kültür kuşaktan kuşağa aktarılan bir sosyal mirastır.</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1197000"/>
            <a:ext cx="8229600" cy="51847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 bir taraftan kültürü beslerken diğer yandan kültürle beslenir ve kültürel değerleri sonraki nesillere aktarmada çok önemli bir işlevi yerine getiri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 kültürün temel unsuru ve taşıyıcısıdır. Çünkü insan ve toplum bir dilin imkânları içinde hisseder, algılar, düşünür, yorumlar, buna uygun davranışlar sergile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üşünceler, dille somut bir hale getirilir. Dile getirilemeyen söylenemeyen bir düşüncenin varlığından bahsetmek  de mümkün değildir.</a:t>
            </a:r>
            <a:endParaRPr b="0" lang="en-US" sz="2800" spc="-1" strike="noStrike">
              <a:solidFill>
                <a:srgbClr val="000000"/>
              </a:solidFill>
              <a:latin typeface="Calibri"/>
            </a:endParaRPr>
          </a:p>
        </p:txBody>
      </p:sp>
      <p:sp>
        <p:nvSpPr>
          <p:cNvPr id="103"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65198-ED35-4465-A54F-843D8748BB3D}"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684360" y="549000"/>
            <a:ext cx="7991280" cy="58323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ir milletin yaşadığı coğrafya, yaşayış biçimi, dünya görüşü ve hayat felsefesi… gibi bir çok bilgi ile ilgili ip ucunu o dilin söz varlığı içerisinde bulabiliriz. Dil, sadece kelimeler ve bunların kullanımından oluşan bir sistem değildir. Dil, bir kültüre ait düşünme biçiminin de simgesel ifadesidi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 aynı zamanda toplumdaki değişme ve gelişmenin yansıma alanıdır.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Özetle bir toplumun kültürü, yapıcı ve yaratıcı başarısı diline yansır. Bu bakımdan dil, toplumun sosyo-kültürel aynasıdır. Toplumda hiçbir değişme ve gelişme yoktur ki diline yansımamış olsun. </a:t>
            </a:r>
            <a:endParaRPr b="0" lang="en-US" sz="2800" spc="-1" strike="noStrike">
              <a:solidFill>
                <a:srgbClr val="000000"/>
              </a:solidFill>
              <a:latin typeface="Calibri"/>
            </a:endParaRPr>
          </a:p>
        </p:txBody>
      </p:sp>
      <p:sp>
        <p:nvSpPr>
          <p:cNvPr id="105"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0A8E0-381A-4540-A2A3-123E991A1CE7}"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3160" y="620280"/>
            <a:ext cx="8142120" cy="5545080"/>
          </a:xfrm>
          <a:prstGeom prst="rect">
            <a:avLst/>
          </a:prstGeom>
          <a:noFill/>
          <a:ln w="0">
            <a:noFill/>
          </a:ln>
        </p:spPr>
        <p:txBody>
          <a:bodyPr anchor="t">
            <a:noAutofit/>
          </a:bodyPr>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Birçok aletin uzun, yassı ve çoğu hareketli bölümleri.</a:t>
            </a:r>
            <a:endParaRPr b="0" lang="en-US" sz="2700" spc="-1" strike="noStrike">
              <a:solidFill>
                <a:srgbClr val="000000"/>
              </a:solidFill>
              <a:latin typeface="Calibri"/>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Makaraların ve bastikaların içine yerleştirilmiş olan, üzerinden geçen halatı istenilen yöne çevirmeye yarayan, çevresi oluklu, küçük döner tekerlek.</a:t>
            </a:r>
            <a:endParaRPr b="0" lang="en-US" sz="2700" spc="-1" strike="noStrike">
              <a:solidFill>
                <a:srgbClr val="000000"/>
              </a:solidFill>
              <a:latin typeface="Calibri"/>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Anahtar.</a:t>
            </a:r>
            <a:endParaRPr b="0" lang="en-US" sz="2700" spc="-1" strike="noStrike">
              <a:solidFill>
                <a:srgbClr val="000000"/>
              </a:solidFill>
              <a:latin typeface="Calibri"/>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Denize uzanan dar ve alçak kara parçası, berzah.</a:t>
            </a:r>
            <a:endParaRPr b="0" lang="en-US" sz="2700" spc="-1" strike="noStrike">
              <a:solidFill>
                <a:srgbClr val="000000"/>
              </a:solidFill>
              <a:latin typeface="Calibri"/>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Sorguya çekilmek için yakalanan tutsak.</a:t>
            </a:r>
            <a:endParaRPr b="0" lang="en-US" sz="2700" spc="-1" strike="noStrike">
              <a:solidFill>
                <a:srgbClr val="000000"/>
              </a:solidFill>
              <a:latin typeface="Calibri"/>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Büyükbaş hayvanların haşlanıp pişirildikten sonra yenebilen dili.</a:t>
            </a:r>
            <a:endParaRPr b="0" lang="en-US" sz="2700" spc="-1" strike="noStrike">
              <a:solidFill>
                <a:srgbClr val="000000"/>
              </a:solidFill>
              <a:latin typeface="Calibri"/>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Ayakkabı bağlarının ayağı rahatsız etmemesini sağlayan ve bağ altına rastlayan saya parçası,</a:t>
            </a:r>
            <a:endParaRPr b="0" lang="en-US" sz="2700" spc="-1" strike="noStrike">
              <a:solidFill>
                <a:srgbClr val="000000"/>
              </a:solidFill>
              <a:latin typeface="Calibri"/>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şeklinde tanımlanmaktadır.</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DE YABANCILAŞMA VE DİL KİRLENMESİ</a:t>
            </a:r>
            <a:endParaRPr b="0" lang="en-US" sz="28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Dil ile düşünce arasında doğrudan bir ilişki vardır. Kimi düşünürlere göre dil, yalnızca düşünmenin aracı değil, tersine düşünceyi yaratan bir etkinliktir. Dil ve düşünce birbirini etkiler ve yaratı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Dil ile düşünce arasındaki sıkı bağlantıyı dilin kuralları belirlemektedir. Bu kurallar yanlış kullanılırsa ve yanlış kullanım yaygınlaşırsa zamanla dil ile düşünce arsındaki sağlıklı bağ gevşer, dil anlatım gücünü kaybederek yozlaşmaya başlar. Cılız, yoz ve kirlenmiş bir dille düşünce üretmek de mümkün değildi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08"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027DB-EBD6-4B60-ABCF-698A61C6E97B}"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4000" y="549360"/>
            <a:ext cx="7745400" cy="57592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Türkçe, bugün özellikle Batı kaynaklı kelimelerin istilasına uğramakta,  yanlış , kaba, çirkin ifadeler yaygınlaşmakta,  argo kullanımı artmakta, kelime hazinesi gittikçe yoksullaşmaktadır. Bütün bunları dilde yabancılaşma ve dil kirlenmesi kapsamında değerlendirebiliriz.</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Dil bilincinden yoksun olmak, umursamazlık, dili kullanırken kuralına uygun kullanmamak, özenti dil kirliliğinin ve yabancılaşmanın önemli nedenlerindendi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Televizyon ekranları, radyo kanalları, diğer basın yayın organları, internet dili kirletme ve bu kirliliği yayarak geliştirmede  maalesef çok etkin bir rol oynamaktadırlar.</a:t>
            </a:r>
            <a:endParaRPr b="0" lang="en-US" sz="2600" spc="-1" strike="noStrike">
              <a:solidFill>
                <a:srgbClr val="000000"/>
              </a:solidFill>
              <a:latin typeface="Calibri"/>
            </a:endParaRPr>
          </a:p>
        </p:txBody>
      </p:sp>
      <p:sp>
        <p:nvSpPr>
          <p:cNvPr id="110"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39D03-7721-4C0A-B1FC-DEF82604F236}"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ÜRESELLEŞME VE KÜLTÜR</a:t>
            </a:r>
            <a:endParaRPr b="0" lang="en-US" sz="28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üreselleşme, sermaye, yönetim, bilgi ve organizasyonun millîlikten çıkıp, tam anlamıyla birbirine bağımlı hale geldiği ekonomik ve siyasi yapılanma, dünya insanlarının tek bir dünya toplumunda bütünleştirilmesi süreci olarak tanımlanmaktadır.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urumda dünya küçülüyor, yerel kültür ögeleri kayboluyor, din, dil ırk ayrımı yapmaksızın tüm insanlar her alanda daha çok birbirine benziyor adeta aynîleşiyor   /  tektipleşiyor. </a:t>
            </a:r>
            <a:endParaRPr b="0" lang="en-US" sz="2800" spc="-1" strike="noStrike">
              <a:solidFill>
                <a:srgbClr val="000000"/>
              </a:solidFill>
              <a:latin typeface="Calibri"/>
            </a:endParaRPr>
          </a:p>
        </p:txBody>
      </p:sp>
      <p:sp>
        <p:nvSpPr>
          <p:cNvPr id="113"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78FDD-A41F-4522-9EAC-974EF096B89E}"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84000" y="691920"/>
            <a:ext cx="8064360" cy="576108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Bu aynîleşme, vatan, din, ahlâk, millet, milliyet, devlet, bayrak gibi kavram ve değerlerin içeriğini ve algılanma biçimini de değiştiriyor. Çünkü küreselleşme aşırı bir ferdiyetçiliği öngörmektedir.</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üreselleşmeyi reddederek olumsuz etkisinden kurtulmak mümkün olmadığına göre bunu lehimize nasıl çevirebiliriz?</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Birincisi, bilimsel ve teknolojik gelişmelere biz yön vererek…. Yani onları biz icat ederek.</a:t>
            </a:r>
            <a:endParaRPr b="0" lang="en-US" sz="32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5"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1A187-CFE1-4576-87D0-00BE6B69DEB0}"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692280"/>
            <a:ext cx="8229600" cy="54338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İkincisi, küreselleşme olgusunun yıpratmaya ve yok etmeye çalıştığı değerlerimize sahip çıkarak, onları yıkılmaz hale getirerek…</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Her iki hedef de toplumun hep birlikte bir kültür hamlesine girmesiyle gerçekleşebilecek durumlardı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üreselleşme olgusu ve ideolojisinden kimlik ve kişiliğimizi  korumak için, dil, din, milliyet gibi konularda daha dikkatli olmak zorundayız.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84000" y="981000"/>
            <a:ext cx="7745400" cy="511200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Kaynakça</a:t>
            </a:r>
            <a:endParaRPr b="0" lang="en-US" sz="28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endParaRPr b="0" lang="en-US" sz="21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AKSARAYLI, İsmail (2007), Yükseköğretim Öğrencileri İçin Türk Dili, Manisa: Emek Matbaacılık.</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KER, Süer(2003), Çağdaş Türk Dili, Ankara: Akçağ  Yayınları. </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MİROSMANOĞLU, Ali, Türkçe-Kompozisyon, Emek Matbaası, Manisa 2006</a:t>
            </a:r>
            <a:r>
              <a:rPr b="1" lang="tr-TR" sz="2500" spc="-1" strike="noStrike">
                <a:solidFill>
                  <a:srgbClr val="000000"/>
                </a:solidFill>
                <a:latin typeface="Times New Roman"/>
                <a:ea typeface="Times New Roman"/>
              </a:rPr>
              <a:t>.</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GÜNEŞ, Sezai(2004), Türk Dili Bilgisi, İzmir: Çağlayan Matbaası</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KARASOY Yakup, vd. (2001), Üniversiteler İçin Türk Dili ve Kompozisyon Bilgileri, Konya: Selçuk Üniversitesi Yaşatma ve Geliştirme Vakfı Yayınları.</a:t>
            </a:r>
            <a:endParaRPr b="0" lang="en-US" sz="25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8"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A0E65-E758-4C03-A769-B500E814E7A1}"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971280" y="692280"/>
            <a:ext cx="7497720" cy="5473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ütün bu tanımlardan yola çıkarak dili, şu şekilde tanımlayabiliriz:</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Times New Roman"/>
                <a:ea typeface="Times New Roman"/>
              </a:rPr>
              <a:t>Dil, insanlar arasında anlaşmayı sağlayan </a:t>
            </a:r>
            <a:r>
              <a:rPr b="0" i="1" lang="tr-TR" sz="2800" spc="-1" strike="noStrike">
                <a:solidFill>
                  <a:srgbClr val="00b0f0"/>
                </a:solidFill>
                <a:latin typeface="Times New Roman"/>
                <a:ea typeface="Times New Roman"/>
              </a:rPr>
              <a:t>doğal bir araç</a:t>
            </a:r>
            <a:r>
              <a:rPr b="0" i="1"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Times New Roman"/>
                <a:ea typeface="Times New Roman"/>
              </a:rPr>
              <a:t>kendine has kanunları bulunan ve bu kanunlar çerçevesinde doğan, büyüyen, gelişen </a:t>
            </a:r>
            <a:r>
              <a:rPr b="0" i="1" lang="tr-TR" sz="2800" spc="-1" strike="noStrike">
                <a:solidFill>
                  <a:srgbClr val="00b0f0"/>
                </a:solidFill>
                <a:latin typeface="Times New Roman"/>
                <a:ea typeface="Times New Roman"/>
              </a:rPr>
              <a:t>canlı bir varlık</a:t>
            </a:r>
            <a:r>
              <a:rPr b="0" i="1"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Times New Roman"/>
                <a:ea typeface="Times New Roman"/>
              </a:rPr>
              <a:t>kökü tarihin karanlık çağlarına dayanan </a:t>
            </a:r>
            <a:r>
              <a:rPr b="0" i="1" lang="tr-TR" sz="2800" spc="-1" strike="noStrike">
                <a:solidFill>
                  <a:srgbClr val="00b0f0"/>
                </a:solidFill>
                <a:latin typeface="Times New Roman"/>
                <a:ea typeface="Times New Roman"/>
              </a:rPr>
              <a:t>gizli anlaşmalar sistemi</a:t>
            </a:r>
            <a:r>
              <a:rPr b="0" i="1"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Times New Roman"/>
                <a:ea typeface="Times New Roman"/>
              </a:rPr>
              <a:t>seslerden örülmüş </a:t>
            </a:r>
            <a:r>
              <a:rPr b="0" i="1" lang="tr-TR" sz="2800" spc="-1" strike="noStrike">
                <a:solidFill>
                  <a:srgbClr val="00b0f0"/>
                </a:solidFill>
                <a:latin typeface="Times New Roman"/>
                <a:ea typeface="Times New Roman"/>
              </a:rPr>
              <a:t>sosyal bir kurum</a:t>
            </a:r>
            <a:r>
              <a:rPr b="0" i="1"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Times New Roman"/>
                <a:ea typeface="Times New Roman"/>
              </a:rPr>
              <a:t>kişiler ve nesiller arasında </a:t>
            </a:r>
            <a:r>
              <a:rPr b="0" i="1" lang="tr-TR" sz="2800" spc="-1" strike="noStrike">
                <a:solidFill>
                  <a:srgbClr val="00b0f0"/>
                </a:solidFill>
                <a:latin typeface="Times New Roman"/>
                <a:ea typeface="Times New Roman"/>
              </a:rPr>
              <a:t>kültür taşıyıcısı</a:t>
            </a:r>
            <a:r>
              <a:rPr b="0" i="1" lang="tr-TR" sz="2800" spc="-1" strike="noStrike">
                <a:solidFill>
                  <a:srgbClr val="000000"/>
                </a:solidFill>
                <a:latin typeface="Times New Roman"/>
                <a:ea typeface="Times New Roman"/>
              </a:rPr>
              <a:t>dır.</a:t>
            </a:r>
            <a:endParaRPr b="0" lang="en-US" sz="2800" spc="-1" strike="noStrike">
              <a:solidFill>
                <a:srgbClr val="000000"/>
              </a:solidFill>
              <a:latin typeface="Calibri"/>
            </a:endParaRPr>
          </a:p>
        </p:txBody>
      </p:sp>
      <p:sp>
        <p:nvSpPr>
          <p:cNvPr id="53"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AEE94-9D09-4B47-AAB2-A73DA9E31D8B}"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4000" y="189000"/>
            <a:ext cx="77547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DİLİN NİTELİKLERİ</a:t>
            </a:r>
            <a:endParaRPr b="0" lang="en-US" sz="3600" spc="-1" strike="noStrike">
              <a:solidFill>
                <a:srgbClr val="000000"/>
              </a:solidFill>
              <a:latin typeface="Calibri"/>
            </a:endParaRPr>
          </a:p>
        </p:txBody>
      </p:sp>
      <p:sp>
        <p:nvSpPr>
          <p:cNvPr id="55" name=""/>
          <p:cNvSpPr txBox="1"/>
          <p:nvPr/>
        </p:nvSpPr>
        <p:spPr>
          <a:xfrm>
            <a:off x="826920" y="1267920"/>
            <a:ext cx="7777440" cy="4969080"/>
          </a:xfrm>
          <a:prstGeom prst="rect">
            <a:avLst/>
          </a:prstGeom>
          <a:noFill/>
          <a:ln w="0">
            <a:noFill/>
          </a:ln>
        </p:spPr>
        <p:txBody>
          <a:bodyPr anchor="t">
            <a:normAutofit/>
          </a:bodyPr>
          <a:p>
            <a:pPr marL="423720" indent="-342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 </a:t>
            </a:r>
            <a:r>
              <a:rPr b="0" lang="tr-TR" sz="3000" spc="-1" strike="noStrike">
                <a:solidFill>
                  <a:srgbClr val="c00000"/>
                </a:solidFill>
                <a:latin typeface="Times New Roman"/>
                <a:ea typeface="Times New Roman"/>
              </a:rPr>
              <a:t>Dil, doğal bir iletişim aracıdır</a:t>
            </a:r>
            <a:r>
              <a:rPr b="0" lang="tr-TR" sz="3000" spc="-1" strike="noStrike">
                <a:solidFill>
                  <a:srgbClr val="000000"/>
                </a:solidFill>
                <a:latin typeface="Times New Roman"/>
                <a:ea typeface="Times New Roman"/>
              </a:rPr>
              <a:t>. Dil, insanların kendi aralarında ve toplumla anlaşmasını sağlayan doğal bir iletişim aracıdır.</a:t>
            </a:r>
            <a:endParaRPr b="0" lang="en-US" sz="3000" spc="-1" strike="noStrike">
              <a:solidFill>
                <a:srgbClr val="000000"/>
              </a:solidFill>
              <a:latin typeface="Calibri"/>
            </a:endParaRPr>
          </a:p>
          <a:p>
            <a:pPr marL="423720" indent="-342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Doğal bir varlık olan dilin kendine özgü bir takım </a:t>
            </a:r>
            <a:r>
              <a:rPr b="0" lang="tr-TR" sz="3000" spc="-1" strike="noStrike">
                <a:solidFill>
                  <a:srgbClr val="c00000"/>
                </a:solidFill>
                <a:latin typeface="Times New Roman"/>
                <a:ea typeface="Times New Roman"/>
              </a:rPr>
              <a:t>kuralları vardır.</a:t>
            </a:r>
            <a:endParaRPr b="0" lang="en-US" sz="3000" spc="-1" strike="noStrike">
              <a:solidFill>
                <a:srgbClr val="000000"/>
              </a:solidFill>
              <a:latin typeface="Calibri"/>
            </a:endParaRPr>
          </a:p>
          <a:p>
            <a:pPr marL="423720" indent="-34272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c00000"/>
                </a:solidFill>
                <a:latin typeface="Times New Roman"/>
                <a:ea typeface="Times New Roman"/>
              </a:rPr>
              <a:t>Dil, canlı bir varlıktır</a:t>
            </a:r>
            <a:r>
              <a:rPr b="0" lang="tr-TR" sz="3000" spc="-1" strike="noStrike">
                <a:solidFill>
                  <a:srgbClr val="000000"/>
                </a:solidFill>
                <a:latin typeface="Times New Roman"/>
                <a:ea typeface="Times New Roman"/>
              </a:rPr>
              <a:t>. Hiçbir dil ilk halini korumaz, kendi yasalarına aykırı zorlamaları benimsemez, ancak kendi bünyesine uygun düşen normal değiştirmeleri kabul eder. Yapısı, kişilerin ve toplumların istedikleri şekilde değiştirilemez.</a:t>
            </a:r>
            <a:endParaRPr b="0" lang="en-US" sz="3000" spc="-1" strike="noStrike">
              <a:solidFill>
                <a:srgbClr val="000000"/>
              </a:solidFill>
              <a:latin typeface="Calibri"/>
            </a:endParaRPr>
          </a:p>
          <a:p>
            <a:pPr marL="423720" indent="-342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6"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1B35C-E082-482C-B2DB-1206769BA31B}"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1331640" y="692280"/>
            <a:ext cx="7497720" cy="5473440"/>
          </a:xfrm>
          <a:prstGeom prst="rect">
            <a:avLst/>
          </a:prstGeom>
          <a:noFill/>
          <a:ln w="0">
            <a:noFill/>
          </a:ln>
        </p:spPr>
        <p:txBody>
          <a:bodyPr anchor="t">
            <a:normAutofit/>
          </a:bodyPr>
          <a:p>
            <a:pPr marL="423720" indent="-3427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 kökü tarihin karanlık çağlarına dayanan </a:t>
            </a:r>
            <a:r>
              <a:rPr b="0" lang="tr-TR" sz="2800" spc="-1" strike="noStrike">
                <a:solidFill>
                  <a:srgbClr val="c00000"/>
                </a:solidFill>
                <a:latin typeface="Times New Roman"/>
                <a:ea typeface="Times New Roman"/>
              </a:rPr>
              <a:t>gizli anlaşmalar sistemidir. </a:t>
            </a:r>
            <a:endParaRPr b="0" lang="en-US" sz="2800" spc="-1" strike="noStrike">
              <a:solidFill>
                <a:srgbClr val="000000"/>
              </a:solidFill>
              <a:latin typeface="Calibri"/>
            </a:endParaRPr>
          </a:p>
          <a:p>
            <a:pPr marL="423720" indent="-3427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 ait olduğu </a:t>
            </a:r>
            <a:r>
              <a:rPr b="0" lang="tr-TR" sz="2800" spc="-1" strike="noStrike">
                <a:solidFill>
                  <a:srgbClr val="c00000"/>
                </a:solidFill>
                <a:latin typeface="Times New Roman"/>
                <a:ea typeface="Times New Roman"/>
              </a:rPr>
              <a:t>milletin ortak malıdır</a:t>
            </a:r>
            <a:r>
              <a:rPr b="0" lang="tr-TR" sz="2800" spc="-1" strike="noStrike">
                <a:solidFill>
                  <a:srgbClr val="000000"/>
                </a:solidFill>
                <a:latin typeface="Times New Roman"/>
                <a:ea typeface="Times New Roman"/>
              </a:rPr>
              <a:t>. Kişiler üstünde bütün bir toplumun malıdır.</a:t>
            </a:r>
            <a:endParaRPr b="0" lang="en-US" sz="2800" spc="-1" strike="noStrike">
              <a:solidFill>
                <a:srgbClr val="000000"/>
              </a:solidFill>
              <a:latin typeface="Calibri"/>
            </a:endParaRPr>
          </a:p>
          <a:p>
            <a:pPr marL="423720" indent="-3427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 </a:t>
            </a:r>
            <a:r>
              <a:rPr b="0" lang="tr-TR" sz="2800" spc="-1" strike="noStrike">
                <a:solidFill>
                  <a:srgbClr val="c00000"/>
                </a:solidFill>
                <a:latin typeface="Times New Roman"/>
                <a:ea typeface="Times New Roman"/>
              </a:rPr>
              <a:t>sosyal bir varlıktır</a:t>
            </a:r>
            <a:r>
              <a:rPr b="0" lang="tr-TR" sz="2800" spc="-1" strike="noStrike">
                <a:solidFill>
                  <a:srgbClr val="000000"/>
                </a:solidFill>
                <a:latin typeface="Times New Roman"/>
                <a:ea typeface="Times New Roman"/>
              </a:rPr>
              <a:t>. Aynı zamanda sosyalleşme aracıdır.</a:t>
            </a:r>
            <a:endParaRPr b="0" lang="en-US" sz="2800" spc="-1" strike="noStrike">
              <a:solidFill>
                <a:srgbClr val="000000"/>
              </a:solidFill>
              <a:latin typeface="Calibri"/>
            </a:endParaRPr>
          </a:p>
          <a:p>
            <a:pPr marL="423720" indent="-3427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 kişiler ve kültürler arasında bir </a:t>
            </a:r>
            <a:r>
              <a:rPr b="0" lang="tr-TR" sz="2800" spc="-1" strike="noStrike">
                <a:solidFill>
                  <a:srgbClr val="c00000"/>
                </a:solidFill>
                <a:latin typeface="Times New Roman"/>
                <a:ea typeface="Times New Roman"/>
              </a:rPr>
              <a:t>kültür taşıyıcısıdır.</a:t>
            </a:r>
            <a:endParaRPr b="0" lang="en-US" sz="2800" spc="-1" strike="noStrike">
              <a:solidFill>
                <a:srgbClr val="000000"/>
              </a:solidFill>
              <a:latin typeface="Calibri"/>
            </a:endParaRPr>
          </a:p>
        </p:txBody>
      </p:sp>
      <p:sp>
        <p:nvSpPr>
          <p:cNvPr id="58"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08ADB-4635-4C4B-BFEB-683B2D73823F}"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3160" y="620640"/>
            <a:ext cx="7854840" cy="5688000"/>
          </a:xfrm>
          <a:prstGeom prst="rect">
            <a:avLst/>
          </a:prstGeom>
          <a:noFill/>
          <a:ln w="0">
            <a:noFill/>
          </a:ln>
        </p:spPr>
        <p:txBody>
          <a:bodyPr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Dil, bir araçtır. Araç olarak işlevleri anlaşma ve iletişimi sağlamak, kültürü taşımak ve insanları sosyal toplumun bir üyesi haline getirmektir. İnsanı insan yapan bütün etkinliklerin, başarıların kökeninde dil vardır. Dil olmasa bilim olmazdı; çünkü doğa olaylarını belli kurallara, ilkelere, yasalara göre açıklamak dilsiz gerçekleşemezdi. Dil olmasa din olmazdı; çünkü kişinin mutlak varlıkla ilişkiler kurması dil sayesinde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533160" y="549360"/>
            <a:ext cx="7854840" cy="575928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Doğal bir varlık olan dilin kendine özgü bir takım kuralları vardır. Bu kurallar dilin yapısından ve eğilimlerinden doğmuş olup dil bütün değişim, gelişim ve üretimini buna göre gerçekleştirir. Yeni ihtiyaçlara cevap verebilmek için gerektiğinde bir dilde yeni kelimeler türetilebilir; ses, biçim ve söz dizimi kalıpları da geliştirilebilir. Dildeki değişme süreklidir. Zamana, coğrafyaya ve dillere göre farklılıklar gösterir. Değişim kimi dillerde hızlı, kimi dillerde ise yavaş olur. Toplumsal, siyasal ve kültürel olaylar ile teknolojik gelişmeler dilin değişim hızını ve boyutunu etkil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533160" y="620280"/>
            <a:ext cx="8142120" cy="576108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Dil, kökü tarihin karanlık çağlarına dayanan gizli anlaşmalar sistemidir. Canlı ve cansız varlıkları, kavramları, hareketleri karşılayan kelimeler ve kelimelerin birbiriyle ilişkileri üzerinde bir toplumun, bir kavmin, bir milletin bütün kişileri gizli anlaşmalar, gizli sözleşmeler yapmış durumdadır. Bu nedenle toplumun bütün kişileri bir varlığı hep aynı kelime ile karşılarl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URAK</cp:lastModifiedBy>
  <dcterms:modified xsi:type="dcterms:W3CDTF">2014-10-02T06:42:19Z</dcterms:modified>
  <cp:revision>75</cp:revision>
  <dc:subject/>
  <dc:title>DİLİN TANIMI</dc:title>
</cp:coreProperties>
</file>